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8118-9856-485A-8073-8043E13B6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information on these areas is available online and from other sources that can help at every stag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participants should be able to do all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needs training and what are their training needs are the key questions. The answers to these are </a:t>
            </a:r>
            <a:r>
              <a:rPr b="1" lang="en-US" sz="1000" spc="-1" strike="noStrike">
                <a:solidFill>
                  <a:srgbClr val="000000"/>
                </a:solidFill>
                <a:latin typeface="Arial"/>
              </a:rPr>
              <a:t>extremely </a:t>
            </a:r>
            <a:r>
              <a:rPr b="0" lang="en-US" sz="1000" spc="-1" strike="noStrike">
                <a:solidFill>
                  <a:srgbClr val="000000"/>
                </a:solidFill>
                <a:latin typeface="Arial"/>
              </a:rPr>
              <a:t>important for successful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hese questions that the next couple of exercises will examine and look at in more detail.</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hrough these important questions with particip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answer these questions, within the context of the content of this complete workshop e.g. if the workshop has been about “using the Internet”, then what is the change that the workshop content is hoping to achieve? That guides the need and areas of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hange are we trying to achie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you should introduce the accompanying exercise: “Train the trainer: Planning training: selection of participants”. Introduce the exercise by going through the instructions in the exercise document. Make sure that people are happy with their understanding of the exercise, its structure and its objectives. Then break people into their groups (randomly is probably b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arning objectives should be SMART – but shouldn’t every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Speci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Measu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chiev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Relev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Tim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making learning objectives SMART is actually quite difficult. Even so, it is a very useful process, as trying to make learning objectives SMART really does help ensure that they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s of learning objectives – check the ones for this un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s: are measurable criteria – how often, how well, how many, how much, how will we know it is okay, combination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itions: what is given, or not given, what are the variables, combination of the abov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7CFAA2-81A8-4DB6-9FEB-004D6B7E53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4BD26B-481E-4304-9597-A6613B757A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2346E9-43E9-4AD0-85CA-6EFDAF2CF6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CBE0A7-3918-4481-BF86-BE99215F3C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9346E-4DBE-4FFE-9081-5F0B9C189D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FB79C-C854-48C2-A3E8-1C2966A11D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B23C6-873B-42B5-A907-62E474F553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DB5EB4-36AC-4F55-8125-9BACEF1229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3754EE1-9B68-42D6-9021-4407C066F0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6070F8-8C3D-42E5-BF49-7E15C80573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9AD3A-BFED-4207-A574-D10589B7E5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3D34E-49E2-4C80-85AE-C9590AC4F7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E412-182D-4A4F-A794-31FC6B9D08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a training event</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 of why appropriate planning before a training event is essential for the event’s suc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s and logistics</a:t>
            </a:r>
            <a:endParaRPr b="0" lang="en-US" sz="4400" spc="-1" strike="noStrike">
              <a:solidFill>
                <a:srgbClr val="000000"/>
              </a:solidFill>
              <a:latin typeface="Arial"/>
            </a:endParaRPr>
          </a:p>
        </p:txBody>
      </p:sp>
      <p:sp>
        <p:nvSpPr>
          <p:cNvPr id="7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ource availability, costs and logistics are essential consider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enue requirements and availabil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vitations and the invitation proc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chnology and resource requirem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freshments and lunches (v. importa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ministrative suppor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rly planning in all are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exibility is important – not everything needs to be perfect to achieve the desired objecti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mplications for budget and logistical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 for consideration</a:t>
            </a:r>
            <a:endParaRPr b="0" lang="en-US" sz="4400" spc="-1" strike="noStrike">
              <a:solidFill>
                <a:srgbClr val="000000"/>
              </a:solidFill>
              <a:latin typeface="Arial"/>
            </a:endParaRPr>
          </a:p>
        </p:txBody>
      </p:sp>
      <p:sp>
        <p:nvSpPr>
          <p:cNvPr id="7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on relevant experien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raining have you been involved in that was particularly effective or ineff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here the key characterist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feel adequate planning was a fa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xperiences of planning training activities have you had or can you tap in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esources (including electronic resources) are available to support your pla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7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planning is essential for successful training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key stages to planning training that </a:t>
            </a:r>
            <a:r>
              <a:rPr b="1" lang="en-US" sz="2800" spc="-1" strike="noStrike">
                <a:solidFill>
                  <a:srgbClr val="000000"/>
                </a:solidFill>
                <a:latin typeface="Arial"/>
              </a:rPr>
              <a:t>must </a:t>
            </a:r>
            <a:r>
              <a:rPr b="0" lang="en-US" sz="2800" spc="-1" strike="noStrike">
                <a:solidFill>
                  <a:srgbClr val="000000"/>
                </a:solidFill>
                <a:latin typeface="Arial"/>
              </a:rPr>
              <a:t>be undertak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training participants, assessing their needs and designing training that matches the tw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training can save time and money later in the training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 helps makes planning more effective and easier to underta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5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cribe the key aspects of successful participant identification</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st the key aspects of the training needs assessment proces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cribe the process of creating SMART learning objectiv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ntify key stages of the content and draft programme development proces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Times New Roman"/>
              </a:rPr>
              <a:t>Describe costs and logistical considerations of the planning phas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questions</a:t>
            </a:r>
            <a:endParaRPr b="0" lang="en-US" sz="4400" spc="-1" strike="noStrike">
              <a:solidFill>
                <a:srgbClr val="000000"/>
              </a:solidFill>
              <a:latin typeface="Arial"/>
            </a:endParaRPr>
          </a:p>
        </p:txBody>
      </p:sp>
      <p:sp>
        <p:nvSpPr>
          <p:cNvPr id="5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questions </a:t>
            </a:r>
            <a:r>
              <a:rPr b="1" lang="en-US" sz="2800" spc="-1" strike="noStrike">
                <a:solidFill>
                  <a:srgbClr val="000000"/>
                </a:solidFill>
                <a:latin typeface="Arial"/>
              </a:rPr>
              <a:t>must</a:t>
            </a:r>
            <a:r>
              <a:rPr b="0" lang="en-US" sz="2800" spc="-1" strike="noStrike">
                <a:solidFill>
                  <a:srgbClr val="000000"/>
                </a:solidFill>
                <a:latin typeface="Arial"/>
              </a:rPr>
              <a:t> be asked before starting any training plann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needs trai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ir training nee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se are answered then we ne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learning objectives to meet these n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ing the training event cont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the training program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costs and early logistical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ying participants</a:t>
            </a:r>
            <a:endParaRPr b="0" lang="en-US" sz="4400" spc="-1" strike="noStrike">
              <a:solidFill>
                <a:srgbClr val="000000"/>
              </a:solidFill>
              <a:latin typeface="Arial"/>
            </a:endParaRPr>
          </a:p>
        </p:txBody>
      </p:sp>
      <p:sp>
        <p:nvSpPr>
          <p:cNvPr id="5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it impor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the wrong people is not effici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people will optimise any impac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hange are we trying to achie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o are the most effective actors of that change or to help achieve that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we work with enablers of the desired change or targets of the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 different people during different phases of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ing needs assessment</a:t>
            </a:r>
            <a:endParaRPr b="0" lang="en-US" sz="4400" spc="-1" strike="noStrike">
              <a:solidFill>
                <a:srgbClr val="000000"/>
              </a:solidFill>
              <a:latin typeface="Arial"/>
            </a:endParaRPr>
          </a:p>
        </p:txBody>
      </p:sp>
      <p:sp>
        <p:nvSpPr>
          <p:cNvPr id="6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ep 1: Training in what are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formance needs assessment (PN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erson/group expected to d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ell do they currently “perform”?</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ifference between the two above is due to a deficiency of knowledge or skills, then training in these areas is the appropriate intervention</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ep 2: Gather background inform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out the traine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file and relevant backgroun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urrent level of knowledge and skil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roaches to needs assessment</a:t>
            </a:r>
            <a:endParaRPr b="0" lang="en-US" sz="3800" spc="-1" strike="noStrike">
              <a:solidFill>
                <a:srgbClr val="000000"/>
              </a:solidFill>
              <a:latin typeface="Arial"/>
            </a:endParaRPr>
          </a:p>
        </p:txBody>
      </p:sp>
      <p:sp>
        <p:nvSpPr>
          <p:cNvPr id="6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igning a needs assessment strateg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eds assessment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isting documentation, talking to target trainees, questionnaires, skills profiles, observation, et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alysing needs assess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people say and what they do are often differ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under expect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ware of unrepresentative subjects and sample correc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RT Learning objectives</a:t>
            </a:r>
            <a:endParaRPr b="0" lang="en-US" sz="4400" spc="-1" strike="noStrike">
              <a:solidFill>
                <a:srgbClr val="000000"/>
              </a:solidFill>
              <a:latin typeface="Arial"/>
            </a:endParaRPr>
          </a:p>
        </p:txBody>
      </p:sp>
      <p:sp>
        <p:nvSpPr>
          <p:cNvPr id="6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objectives – what are the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skills, attitudes (KSAs) that the learner will know or be able to do after the train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SMART – consid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behaviour of the learner that will be changed? Select an appropriate verb to describe thi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what conditions must the task be perform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at standards the task must be perform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iculty of making things SM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outline</a:t>
            </a:r>
            <a:endParaRPr b="0" lang="en-US" sz="4400" spc="-1" strike="noStrike">
              <a:solidFill>
                <a:srgbClr val="000000"/>
              </a:solidFill>
              <a:latin typeface="Arial"/>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the content outline that matches the learning objec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outlines and iterative develop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at the content outline meets participants expectations and requir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ation and iterative develop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develop things in isol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map the content outline onto the outcomes of the needs assessment and learning object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 programme development</a:t>
            </a:r>
            <a:endParaRPr b="0" lang="en-US" sz="4400" spc="-1" strike="noStrike">
              <a:solidFill>
                <a:srgbClr val="000000"/>
              </a:solidFill>
              <a:latin typeface="Arial"/>
            </a:endParaRPr>
          </a:p>
        </p:txBody>
      </p:sp>
      <p:sp>
        <p:nvSpPr>
          <p:cNvPr id="6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Content outline feeds into the draft programme</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How can the content be put together in the most effective way</a:t>
            </a:r>
            <a:endParaRPr b="0" lang="en-US" sz="27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member adult learning principles, available resources, opportunities and constraint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ory, ideals, practicalities and realities</a:t>
            </a:r>
            <a:endParaRPr b="0" lang="en-US" sz="24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rite learning objectives for individual sessions </a:t>
            </a:r>
            <a:endParaRPr b="0" lang="en-US" sz="27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y don't match the overall objectives then should the session be inclu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3-08T15:58:16Z</dcterms:modified>
  <cp:revision>8</cp:revision>
  <dc:subject/>
  <dc:title>Planning a training event</dc:title>
</cp:coreProperties>
</file>