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E3D4-8D1A-48E2-A6B7-ADAAAA59CB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hdr"/>
          </p:nvPr>
        </p:nvSpPr>
        <p:spPr>
          <a:xfrm>
            <a:off x="0" y="0"/>
            <a:ext cx="6647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ASP Workshop title: Module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ftr" idx="4"/>
          </p:nvPr>
        </p:nvSpPr>
        <p:spPr>
          <a:xfrm>
            <a:off x="-360" y="9512280"/>
            <a:ext cx="604188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Copyright INASP – see: http://inasp.info/training/training-materials-copyright.html for more detail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ld give participants 5 minutes in twos to discuss this. Should demonstrate that inappropriate training can lead 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ustration, panic, boredom, confusion, et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9F239-1DFD-415D-B853-C432DC8D6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6ECA-019E-479C-B6B8-33FB28797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08CA-658E-4260-902B-1EE5CF8250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CC20-9DA8-4B8F-A17A-D556690B58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952C-16EC-43BC-A11D-BF566933F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84E8-F760-4843-9522-570DBA0D4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873C-3A0F-4057-8CD1-958EAE309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B6A3-AB92-413A-80B7-F27274E16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9DC7-E522-49CC-9356-E9FA3C6E7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4633-C716-42F4-B9C4-E5113B058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2F1A-A421-4699-83EC-CF96825CB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FA89-BDCF-442A-B757-AC4FF9B4E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CC44-001B-43B2-AA76-19A7A4DA2F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15000" y="60958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58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visit_itrain2" descr=""/>
          <p:cNvPicPr/>
          <p:nvPr/>
        </p:nvPicPr>
        <p:blipFill>
          <a:blip r:embed="rId2"/>
          <a:stretch/>
        </p:blipFill>
        <p:spPr>
          <a:xfrm>
            <a:off x="7543800" y="6164280"/>
            <a:ext cx="9144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ing Training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31240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materials develop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ntre for Development and Population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ww.cedpa.or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think this exercise might be useful to you when you design a training s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feel confident about conducting a needs assessment for workshops in the 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do you think will be most difficul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do you think will be the most usefu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a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overview of trai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ww.lboro.ac.uk/well/resources/technical-briefs/53-training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ing a training needs assessment by Jeanette Sw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ammxi.com/amx_mi30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anual for media trainers: a learner centr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ww.unesco.org/webworld/publications/media_trainers/manual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end of this unit participants wi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needs assessment helps in development of a training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steps for conducting a need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raining needs of a specific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been in a situation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ilitator spent a lot of time covering material that you already k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erial was far more in-depth or complicated than you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is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affect the group’s mor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, it is important to carry out a training needs assessment before undertaking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raining the right sol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help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individuals to motivate and develop atti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lack of appropriate equipment 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oblems caused by poor policies or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utions to problems are like keys in locks; they don’t work if they don’t fit, and if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olutions aren’t  the right ones, the problem doesn’t get solved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ager an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e 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uld you assess nee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naires/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 key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records and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job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into groups of 3 - 5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case study + task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1: 15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2: 15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back: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group to identify and agree priority training areas for the case study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group to identify the steps taken to determine training needs in this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 on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it easy or difficult to determine training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ight have made it easier to identify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eeds, if any, cannot be met by tra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22:35:45Z</dcterms:created>
  <dc:creator>Martin Belcher</dc:creator>
  <dc:description/>
  <dc:language>en-US</dc:language>
  <cp:lastModifiedBy>Martin Belcher</cp:lastModifiedBy>
  <dcterms:modified xsi:type="dcterms:W3CDTF">2004-02-13T07:18:47Z</dcterms:modified>
  <cp:revision>23</cp:revision>
  <dc:subject/>
  <dc:title>ITO Train the trainer unit</dc:title>
</cp:coreProperties>
</file>