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3BCB-F785-44EA-833D-C19D478FF2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hdr"/>
          </p:nvPr>
        </p:nvSpPr>
        <p:spPr>
          <a:xfrm>
            <a:off x="0" y="0"/>
            <a:ext cx="6647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ASP Workshop title: Module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ftr" idx="4"/>
          </p:nvPr>
        </p:nvSpPr>
        <p:spPr>
          <a:xfrm>
            <a:off x="-360" y="9512280"/>
            <a:ext cx="60418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Copyright INASP – see: http://inasp.info/training/training-materials-copyright.html for more detail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uld give participants 5 minutes in twos to discuss this. Should demonstrate that inappropriate training can lead  t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ustration, panic, boredom, confusion,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85D8-23F7-48B9-AFE6-2E08FAB94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087D-EA88-4F9E-AA95-B0EF5A456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2948-FF25-4751-88F4-608D5AC0C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A311-8EE1-4642-B3DC-81B91859DF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DFE81-47A7-4F6E-A6A1-D01FCB642D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1C14-B386-4333-98E5-365DEF953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449E-3986-46CC-B7E7-F10B3ABC8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4EFA6-4E19-4421-8839-3AA6E7C85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97BF-585A-42CC-B465-63ADC93A2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EAA4-046B-487B-9128-BD373D676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4C29-958D-4506-8480-E98DCBAE9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A6F06-AC4D-4B29-9B77-F27DF3761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BC34-C486-48C5-9E23-2865E93044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715000" y="6094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715000" y="60958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58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visit_itrain2" descr=""/>
          <p:cNvPicPr/>
          <p:nvPr/>
        </p:nvPicPr>
        <p:blipFill>
          <a:blip r:embed="rId2"/>
          <a:stretch/>
        </p:blipFill>
        <p:spPr>
          <a:xfrm>
            <a:off x="7543800" y="6164280"/>
            <a:ext cx="914400" cy="61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ing Training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95280" y="31240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materials develop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entre for Development and Population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www.cedpa.or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think this exercise might be useful to you when you design a training ses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feel confident about conducting a needs assessment for workshops in the fu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t do you think will be most difficu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t do you think will be the most usefu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rea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rief overview of train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ww.lboro.ac.uk/well/resources/technical-briefs/53-training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ducting a training needs assessment by Jeanette Sw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ww.ammxi.com/amx_mi30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manual for media trainers: a learner centr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ww.unesco.org/webworld/publications/media_trainers/manual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end of this unit participants will be abl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needs assessment helps in development of a training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steps for conducting a need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training needs of a specific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been in a situation 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cilitator spent a lot of time covering material that you already kn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terial was far more in-depth or complicated than you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is make you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affect the group’s mora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3000" y="15235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, it is important to carry out a training needs assessment before undertaking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raining the right sol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can help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individuals to motivate and develop at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ca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e lack of appropriate equipment or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problems caused by poor policies or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olutions to problems are like keys in locks; they don’t work if they don’t fit, and if 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olutions aren’t  the right ones, the problem doesn’t get solved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3600"/>
            </a:b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ager and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e 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ould you assess nee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naires/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 key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 records and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job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into groups of 3 - 5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case study + task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1: 15 min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2: 15 min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back: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 group to identify and agree priority training areas for the case study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 group to identify the steps taken to determine training needs in this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 on 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it easy or difficult to determine training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ight have made it easier to identify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needs, if any, cannot be met by tra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22:35:45Z</dcterms:created>
  <dc:creator>Martin Belcher</dc:creator>
  <dc:description/>
  <dc:language>en-US</dc:language>
  <cp:lastModifiedBy>Martin Belcher</cp:lastModifiedBy>
  <dcterms:modified xsi:type="dcterms:W3CDTF">2004-02-13T07:18:47Z</dcterms:modified>
  <cp:revision>23</cp:revision>
  <dc:subject/>
  <dc:title>ITO Train the trainer unit</dc:title>
</cp:coreProperties>
</file>