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8" name="PlaceHolder 4"/>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4325-5D00-40D3-98C1-D3C2D3223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 name="PlaceHolder 5"/>
          <p:cNvSpPr>
            <a:spLocks noGrp="1"/>
          </p:cNvSpPr>
          <p:nvPr>
            <p:ph type="hdr"/>
          </p:nvPr>
        </p:nvSpPr>
        <p:spPr>
          <a:xfrm>
            <a:off x="-360" y="0"/>
            <a:ext cx="67057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50" name="PlaceHolder 6"/>
          <p:cNvSpPr>
            <a:spLocks noGrp="1"/>
          </p:cNvSpPr>
          <p:nvPr>
            <p:ph type="ftr" idx="4"/>
          </p:nvPr>
        </p:nvSpPr>
        <p:spPr>
          <a:xfrm>
            <a:off x="-360" y="8763120"/>
            <a:ext cx="609588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information on these areas is available online and from other sources that can help at every stag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end of this unit, participants should be able to do all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needs training and what are their training needs are the key questions. The answers to these are </a:t>
            </a:r>
            <a:r>
              <a:rPr b="1" lang="en-US" sz="1000" spc="-1" strike="noStrike">
                <a:solidFill>
                  <a:srgbClr val="000000"/>
                </a:solidFill>
                <a:latin typeface="Arial"/>
              </a:rPr>
              <a:t>extremely </a:t>
            </a:r>
            <a:r>
              <a:rPr b="0" lang="en-US" sz="1000" spc="-1" strike="noStrike">
                <a:solidFill>
                  <a:srgbClr val="000000"/>
                </a:solidFill>
                <a:latin typeface="Arial"/>
              </a:rPr>
              <a:t>important for successful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se questions that the next couple of exercises will examine and look at in more detai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hrough these important questions with participa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answer these questions, within the context of the content of this complete workshop e.g. if the workshop has been about “using the Internet”, then what is the change that the workshop content is hoping to achieve? That guides the need and areas of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hange are we trying to achie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you should introduce the accompanying exercise: “Train the trainer: Planning training: selection of participants”. Introduce the exercise by going through the instructions in the exercise document. Make sure that people are happy with their understanding of the exercise, its structure and its objectives. Then break people into their groups (randomly is probably b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arning objectives should be SMART – but shouldn’t every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Specif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Measur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chievab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 Relev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 Tim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making learning objectives SMART is actually quite difficult. Even so, it is a very useful process, as trying to make learning objectives SMART really does help ensure that they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s of learning objectives – check the ones for this un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 are measurable criteria – how often, how well, how many, how much, how will we know it is okay, combination of the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itions: what is given, or not given, what are the variables, combination of the abov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228013-CFD9-434E-8377-B4CF298EE6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E95C62-85B7-4D9A-9A79-4E8F12FE4E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C68B5C-2C15-406A-A83E-CD56E7496D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060A0F-1E65-414F-BFD6-E0AA4FF8FA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F2D6D-04F2-45DC-AEE3-CB871E0B9A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26991-FC36-4D5E-9DDF-D49E7FCD7B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395EBD-39D4-4639-BFA5-8C3F583522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258CB4-5E7F-44DA-9B56-A84AD67705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07285D4-F26E-4B1F-9467-38825E8E34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8E3B4-C869-466D-98C5-0DE8F8507B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64972-0A48-4D61-A530-3C6B2C1ABD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5E387-0732-43D6-A1E3-E97F300451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D453-9E7B-4BAA-BE61-E7C125CD66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training event</a:t>
            </a: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verview of why appropriate planning before a training event is essential for the event’s suc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sts and logistics</a:t>
            </a:r>
            <a:endParaRPr b="0" lang="en-US" sz="4400" spc="-1" strike="noStrike">
              <a:solidFill>
                <a:srgbClr val="000000"/>
              </a:solidFill>
              <a:latin typeface="Arial"/>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source availability, costs and logistics are essential considera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enue requirements and availab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vitations and the invitation proce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echnology and resource requirem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freshments and lunches (v. importa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ministrative suppor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rly planning in all ar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exibility is important – not everything needs to be perfect to achieve the desired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mplications for budget and logistical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ues for consideration</a:t>
            </a:r>
            <a:endParaRPr b="0" lang="en-US" sz="4400" spc="-1" strike="noStrike">
              <a:solidFill>
                <a:srgbClr val="000000"/>
              </a:solidFill>
              <a:latin typeface="Arial"/>
            </a:endParaRPr>
          </a:p>
        </p:txBody>
      </p:sp>
      <p:sp>
        <p:nvSpPr>
          <p:cNvPr id="7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on relevant experien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raining have you been involved in that was particularly effective or ineff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here the key characterist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feel adequate planning was a fa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xperiences of planning training activities have you had or can you tap int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esources (including electronic resources) are available to support your pla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7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planning is essential for successful training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key stages to planning training that </a:t>
            </a:r>
            <a:r>
              <a:rPr b="1" lang="en-US" sz="2800" spc="-1" strike="noStrike">
                <a:solidFill>
                  <a:srgbClr val="000000"/>
                </a:solidFill>
                <a:latin typeface="Arial"/>
              </a:rPr>
              <a:t>must </a:t>
            </a:r>
            <a:r>
              <a:rPr b="0" lang="en-US" sz="2800" spc="-1" strike="noStrike">
                <a:solidFill>
                  <a:srgbClr val="000000"/>
                </a:solidFill>
                <a:latin typeface="Arial"/>
              </a:rPr>
              <a:t>be undertak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training participants, assessing their needs and designing training that matches the tw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training can save time and money later in the training proc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 helps makes planning more effective and easier to underta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5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cribe the key aspects of successful participant identification</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ist the key aspects of the training needs assessment proces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scribe the process of creating SMART learning objectiv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ntify key stages of the content and draft programme development proces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Times New Roman"/>
              </a:rPr>
              <a:t>Describe costs and logistical considerations of the planning phas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ortant questions</a:t>
            </a:r>
            <a:endParaRPr b="0" lang="en-US" sz="4400" spc="-1" strike="noStrike">
              <a:solidFill>
                <a:srgbClr val="000000"/>
              </a:solidFill>
              <a:latin typeface="Arial"/>
            </a:endParaRPr>
          </a:p>
        </p:txBody>
      </p:sp>
      <p:sp>
        <p:nvSpPr>
          <p:cNvPr id="5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questions </a:t>
            </a:r>
            <a:r>
              <a:rPr b="1" lang="en-US" sz="2800" spc="-1" strike="noStrike">
                <a:solidFill>
                  <a:srgbClr val="000000"/>
                </a:solidFill>
                <a:latin typeface="Arial"/>
              </a:rPr>
              <a:t>must</a:t>
            </a:r>
            <a:r>
              <a:rPr b="0" lang="en-US" sz="2800" spc="-1" strike="noStrike">
                <a:solidFill>
                  <a:srgbClr val="000000"/>
                </a:solidFill>
                <a:latin typeface="Arial"/>
              </a:rPr>
              <a:t> be asked before starting any training plann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needs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ir training nee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se are answered then we need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learning objectives to meet these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ing the training event cont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the training program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costs and early logistic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ying participants</a:t>
            </a:r>
            <a:endParaRPr b="0" lang="en-US" sz="4400" spc="-1" strike="noStrike">
              <a:solidFill>
                <a:srgbClr val="000000"/>
              </a:solidFill>
              <a:latin typeface="Arial"/>
            </a:endParaRPr>
          </a:p>
        </p:txBody>
      </p:sp>
      <p:sp>
        <p:nvSpPr>
          <p:cNvPr id="5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it impor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the wrong people is not effici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people will optimise any impac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change are we trying to achie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o are the most effective actors of that change or to help achieve that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we work with enablers of the desired change or targets of the ch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 different people during different phases of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ing needs assessment</a:t>
            </a:r>
            <a:endParaRPr b="0" lang="en-US" sz="4400" spc="-1" strike="noStrike">
              <a:solidFill>
                <a:srgbClr val="000000"/>
              </a:solidFill>
              <a:latin typeface="Arial"/>
            </a:endParaRPr>
          </a:p>
        </p:txBody>
      </p:sp>
      <p:sp>
        <p:nvSpPr>
          <p:cNvPr id="6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ep 1: Training in what are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formance needs assessment (PN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erson/group expected to d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ell do they currently “perform”?</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fference between the two above is due to a deficiency of knowledge or skills, then training in these areas is the appropriate intervention</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ep 2: Gather background inform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out the trainees</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file and relevant background</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urrent level of knowledge and ski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 to needs assessment</a:t>
            </a:r>
            <a:endParaRPr b="0" lang="en-US" sz="3800" spc="-1" strike="noStrike">
              <a:solidFill>
                <a:srgbClr val="000000"/>
              </a:solidFill>
              <a:latin typeface="Arial"/>
            </a:endParaRPr>
          </a:p>
        </p:txBody>
      </p:sp>
      <p:sp>
        <p:nvSpPr>
          <p:cNvPr id="6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signing a needs assessment strateg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eds assessment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isting documentation, talking to target trainees, questionnaires, skills profiles, observation, et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alysing needs assess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people say and what they do are often differ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under expect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ware of unrepresentative subjects and sample cor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RT Learning objectives</a:t>
            </a:r>
            <a:endParaRPr b="0" lang="en-US" sz="4400" spc="-1" strike="noStrike">
              <a:solidFill>
                <a:srgbClr val="000000"/>
              </a:solidFill>
              <a:latin typeface="Arial"/>
            </a:endParaRPr>
          </a:p>
        </p:txBody>
      </p:sp>
      <p:sp>
        <p:nvSpPr>
          <p:cNvPr id="6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objectives – what are the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skills, attitudes (KSAs) that the learner will know or be able to do after the train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SMART – consid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ehaviour of the learner that will be changed? Select an appropriate verb to describe thi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what conditions must the task be perfor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what standards the task must be perform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iculty of making things SM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outline</a:t>
            </a:r>
            <a:endParaRPr b="0" lang="en-US" sz="4400" spc="-1" strike="noStrike">
              <a:solidFill>
                <a:srgbClr val="000000"/>
              </a:solidFill>
              <a:latin typeface="Arial"/>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the content outline that matches the learning objec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outlines and iterative develop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the content outline meets participants expectations and requir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tion and iterative develop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develop things in isol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map the content outline onto the outcomes of the needs assessment and learning objec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 programme development</a:t>
            </a:r>
            <a:endParaRPr b="0" lang="en-US" sz="4400" spc="-1" strike="noStrike">
              <a:solidFill>
                <a:srgbClr val="000000"/>
              </a:solidFill>
              <a:latin typeface="Arial"/>
            </a:endParaRPr>
          </a:p>
        </p:txBody>
      </p:sp>
      <p:sp>
        <p:nvSpPr>
          <p:cNvPr id="6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ontent outline feeds into the draft programme</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How can the content be put together in the most effective way</a:t>
            </a:r>
            <a:endParaRPr b="0" lang="en-US" sz="2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member adult learning principles, available resources, opportunities and constraint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ory, ideals, practicalities and realities</a:t>
            </a:r>
            <a:endParaRPr b="0" lang="en-US" sz="24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rite learning objectives for individual sessions </a:t>
            </a:r>
            <a:endParaRPr b="0" lang="en-US" sz="27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they don't match the overall objectives then should the session be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3:25:39Z</dcterms:created>
  <dc:creator>Martin Belcher</dc:creator>
  <dc:description/>
  <dc:language>en-US</dc:language>
  <cp:lastModifiedBy>Martin Belcher</cp:lastModifiedBy>
  <dcterms:modified xsi:type="dcterms:W3CDTF">2004-03-08T15:58:16Z</dcterms:modified>
  <cp:revision>8</cp:revision>
  <dc:subject/>
  <dc:title>Planning a training event</dc:title>
</cp:coreProperties>
</file>