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dt" idx="3"/>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3"/>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2" name="PlaceHolder 4"/>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F4511-BEFF-4441-B6DE-4E3003C28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5"/>
          <p:cNvSpPr>
            <a:spLocks noGrp="1"/>
          </p:cNvSpPr>
          <p:nvPr>
            <p:ph type="hdr"/>
          </p:nvPr>
        </p:nvSpPr>
        <p:spPr>
          <a:xfrm>
            <a:off x="0" y="0"/>
            <a:ext cx="6647040" cy="579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ASP Workshop title: Module #</a:t>
            </a:r>
            <a:endParaRPr b="0" lang="en-US" sz="800" spc="-1" strike="noStrike">
              <a:solidFill>
                <a:srgbClr val="000000"/>
              </a:solidFill>
              <a:latin typeface="Times New Roman"/>
            </a:endParaRPr>
          </a:p>
        </p:txBody>
      </p:sp>
      <p:sp>
        <p:nvSpPr>
          <p:cNvPr id="94" name="PlaceHolder 6"/>
          <p:cNvSpPr>
            <a:spLocks noGrp="1"/>
          </p:cNvSpPr>
          <p:nvPr>
            <p:ph type="ftr" idx="5"/>
          </p:nvPr>
        </p:nvSpPr>
        <p:spPr>
          <a:xfrm>
            <a:off x="-360" y="9512280"/>
            <a:ext cx="6041880" cy="331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7640" y="744480"/>
            <a:ext cx="4962600" cy="3722760"/>
          </a:xfrm>
          <a:prstGeom prst="rect">
            <a:avLst/>
          </a:prstGeom>
          <a:ln w="0">
            <a:noFill/>
          </a:ln>
        </p:spPr>
      </p:sp>
      <p:sp>
        <p:nvSpPr>
          <p:cNvPr id="128"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ending on the speed of delivery and interaction with participants, this presentation takes around 20-30 minutes to delivery (with minimal interaction/discussion).</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7640" y="744480"/>
            <a:ext cx="4962600" cy="3722760"/>
          </a:xfrm>
          <a:prstGeom prst="rect">
            <a:avLst/>
          </a:prstGeom>
          <a:ln w="0">
            <a:noFill/>
          </a:ln>
        </p:spPr>
      </p:sp>
      <p:sp>
        <p:nvSpPr>
          <p:cNvPr id="146"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very important to implement training effectively, otherwise it can be counter productive e.g. if people participate in a bad/ineffective training activity then they may consider that the problem lay with the subject area and not the training format. When this comes to ICT issues, then it could lead people to dismiss the technology or application in question. Correcting that situation will double any training requiremen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2760"/>
          </a:xfrm>
          <a:prstGeom prst="rect">
            <a:avLst/>
          </a:prstGeom>
          <a:ln w="0">
            <a:noFill/>
          </a:ln>
        </p:spPr>
      </p:sp>
      <p:sp>
        <p:nvSpPr>
          <p:cNvPr id="148"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ion and review has to be done to ensure success and guide changes that are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g. we will be evaluating this workshop and looking at its </a:t>
            </a:r>
            <a:r>
              <a:rPr b="1" lang="en-US" sz="1000" spc="-1" strike="noStrike">
                <a:solidFill>
                  <a:srgbClr val="000000"/>
                </a:solidFill>
                <a:latin typeface="Arial"/>
              </a:rPr>
              <a:t>imp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 e-resource training – impact can be assessed by usage patterns – you may wish to provide details of how e.g. training searching patterns of end users, before and after advanced searching training.</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7640" y="744480"/>
            <a:ext cx="4962600" cy="3722760"/>
          </a:xfrm>
          <a:prstGeom prst="rect">
            <a:avLst/>
          </a:prstGeom>
          <a:ln w="0">
            <a:noFill/>
          </a:ln>
        </p:spPr>
      </p:sp>
      <p:sp>
        <p:nvSpPr>
          <p:cNvPr id="150"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stics are very important for successful training and they take a surprising amount of time and effort to do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like to provide some simple details for the organisation of this workshop – how much time it took to invite people, get them here, accommodation, travel issues, etc, etc….</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62600" cy="3722760"/>
          </a:xfrm>
          <a:prstGeom prst="rect">
            <a:avLst/>
          </a:prstGeom>
          <a:ln w="0">
            <a:noFill/>
          </a:ln>
        </p:spPr>
      </p:sp>
      <p:sp>
        <p:nvSpPr>
          <p:cNvPr id="152"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possible to conduct a complete training programme with one person but there are distinct roles they need to consider and it is often better to split these between more than one pers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due to practicalities and constraints, it may be that we are limited to just one person, even so, thinking about all of the roles and their different aspects helps to make sure that nothing is missing.</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2600" cy="3722760"/>
          </a:xfrm>
          <a:prstGeom prst="rect">
            <a:avLst/>
          </a:prstGeom>
          <a:ln w="0">
            <a:noFill/>
          </a:ln>
        </p:spPr>
      </p:sp>
      <p:sp>
        <p:nvSpPr>
          <p:cNvPr id="154"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 trainer or someone involved in planning training activities, one needs to ask oneself the following ques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role do I have in the training proces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an I lear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an be improved for next time – in terms of the process and peopl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an I improve my role in the proces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s this workshop facilitator you should ask yourself these questions – you may want to provide a few simple answers for the participants of the workshop, as an indication of the learning process and how it can be beneficial. It might be worth thinking about the question and possible answers before you deliver this module though!</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7640" y="744480"/>
            <a:ext cx="4962600" cy="3722760"/>
          </a:xfrm>
          <a:prstGeom prst="rect">
            <a:avLst/>
          </a:prstGeom>
          <a:ln w="0">
            <a:noFill/>
          </a:ln>
        </p:spPr>
      </p:sp>
      <p:sp>
        <p:nvSpPr>
          <p:cNvPr id="156"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like to highlight that this module and its materials are based on information that can be found a freely used online. In line with the “find and adapt” training materials from earli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2600" cy="3722760"/>
          </a:xfrm>
          <a:prstGeom prst="rect">
            <a:avLst/>
          </a:prstGeom>
          <a:ln w="0">
            <a:noFill/>
          </a:ln>
        </p:spPr>
      </p:sp>
      <p:sp>
        <p:nvSpPr>
          <p:cNvPr id="130"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important to define what “training” is and in this case, what constitutes an “event”, as this helps focus our approa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is primarily associated with the learning of new skills, knowledge or approaches i.e. it is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HANGE are we trying to achiev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2600" cy="3722760"/>
          </a:xfrm>
          <a:prstGeom prst="rect">
            <a:avLst/>
          </a:prstGeom>
          <a:ln w="0">
            <a:noFill/>
          </a:ln>
        </p:spPr>
      </p:sp>
      <p:sp>
        <p:nvSpPr>
          <p:cNvPr id="132"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ffective training of adults we need to consider basic adult learning princi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detailed here (above) are how adults learn best. We all have slightly different preferences that fit some of these areas and issues outlined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hich to ask participants about what they have liked so far about this workshop? Did it meet those principles outlined above? Has there been something that went very well with participants? If so then you may be able to link it to some of the principles outlined here. If something has gone badly, then you may also like to link it to a lack of connection to the principles above. Hopefully, nothing has gone too badly thou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a:t>
            </a:r>
            <a:r>
              <a:rPr b="1" lang="en-US" sz="1000" spc="-1" strike="noStrike">
                <a:solidFill>
                  <a:srgbClr val="000000"/>
                </a:solidFill>
                <a:latin typeface="Arial"/>
              </a:rPr>
              <a:t>great</a:t>
            </a:r>
            <a:r>
              <a:rPr b="0" lang="en-US" sz="1000" spc="-1" strike="noStrike">
                <a:solidFill>
                  <a:srgbClr val="000000"/>
                </a:solidFill>
                <a:latin typeface="Arial"/>
              </a:rPr>
              <a:t> deal of information that could be covered on adult learning principles but this slide provides a short summary of those that are of immediate importance here. The detail isn’t important in this context, just the overview.</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2600" cy="3722760"/>
          </a:xfrm>
          <a:prstGeom prst="rect">
            <a:avLst/>
          </a:prstGeom>
          <a:ln w="0">
            <a:noFill/>
          </a:ln>
        </p:spPr>
      </p:sp>
      <p:sp>
        <p:nvSpPr>
          <p:cNvPr id="134"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outline of this presentation/module – you may wish to move quickly through this, as it is covered in more detail in the rest of the presentatio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2760"/>
          </a:xfrm>
          <a:prstGeom prst="rect">
            <a:avLst/>
          </a:prstGeom>
          <a:ln w="0">
            <a:noFill/>
          </a:ln>
        </p:spPr>
      </p:sp>
      <p:sp>
        <p:nvSpPr>
          <p:cNvPr id="136"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the learning objectives for this module – we should be able to go back to these are the end of the module and review them in a positive light – that we are able to do these th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st item is a general theme in all training – that people delivering the training should always be learning themselve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5840" y="744480"/>
            <a:ext cx="4965840" cy="3722760"/>
          </a:xfrm>
          <a:prstGeom prst="rect">
            <a:avLst/>
          </a:prstGeom>
          <a:ln w="0">
            <a:noFill/>
          </a:ln>
        </p:spPr>
      </p:sp>
      <p:sp>
        <p:nvSpPr>
          <p:cNvPr id="138"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ess the importance of planning – </a:t>
            </a:r>
            <a:r>
              <a:rPr b="1" lang="en-US" sz="1000" spc="-1" strike="noStrike">
                <a:solidFill>
                  <a:srgbClr val="000000"/>
                </a:solidFill>
                <a:latin typeface="Arial"/>
              </a:rPr>
              <a:t>without adequate planning</a:t>
            </a:r>
            <a:r>
              <a:rPr b="0" lang="en-US" sz="1000" spc="-1" strike="noStrike">
                <a:solidFill>
                  <a:srgbClr val="000000"/>
                </a:solidFill>
                <a:latin typeface="Arial"/>
              </a:rPr>
              <a:t>, then a training event is much more likely to </a:t>
            </a:r>
            <a:r>
              <a:rPr b="1" lang="en-US" sz="1000" spc="-1" strike="noStrike">
                <a:solidFill>
                  <a:srgbClr val="000000"/>
                </a:solidFill>
                <a:latin typeface="Arial"/>
              </a:rPr>
              <a:t>not</a:t>
            </a:r>
            <a:r>
              <a:rPr b="0" lang="en-US" sz="1000" spc="-1" strike="noStrike">
                <a:solidFill>
                  <a:srgbClr val="000000"/>
                </a:solidFill>
                <a:latin typeface="Arial"/>
              </a:rPr>
              <a:t> </a:t>
            </a:r>
            <a:r>
              <a:rPr b="1" lang="en-US" sz="1000" spc="-1" strike="noStrike">
                <a:solidFill>
                  <a:srgbClr val="000000"/>
                </a:solidFill>
                <a:latin typeface="Arial"/>
              </a:rPr>
              <a:t>achieve its desired aim</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identally, one of the key aspects of planning a training event is to clearly understand and define what the desired aim of the training is? What impact will it have? If that can’t be clearly defined then it might be that it is not needed or it is better to do something els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5840" y="744480"/>
            <a:ext cx="4965840" cy="3722760"/>
          </a:xfrm>
          <a:prstGeom prst="rect">
            <a:avLst/>
          </a:prstGeom>
          <a:ln w="0">
            <a:noFill/>
          </a:ln>
        </p:spPr>
      </p:sp>
      <p:sp>
        <p:nvSpPr>
          <p:cNvPr id="140"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y phases and processes within the planning and delivery of a training event are all related and should be cyclical in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thing feeds into another and iterative changes are possible and likely at all stages of th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hese iterations during and between the cycles that lead to improved training and end impact of training event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2600" cy="3722760"/>
          </a:xfrm>
          <a:prstGeom prst="rect">
            <a:avLst/>
          </a:prstGeom>
          <a:ln w="0">
            <a:noFill/>
          </a:ln>
        </p:spPr>
      </p:sp>
      <p:sp>
        <p:nvSpPr>
          <p:cNvPr id="142"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l go into these in more details in later modules/content of the workshop. They are all important areas and none should be missed at the expense of another.</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2600" cy="3722760"/>
          </a:xfrm>
          <a:prstGeom prst="rect">
            <a:avLst/>
          </a:prstGeom>
          <a:ln w="0">
            <a:noFill/>
          </a:ln>
        </p:spPr>
      </p:sp>
      <p:sp>
        <p:nvSpPr>
          <p:cNvPr id="144"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it is possible to write training materials from scratch but it is difficult and time consuming. Considering the wealth of information and training resources available in this area online, then why not locate, adapt and use existing training materials and cont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refer to earlier workshop content – that it was based on content from the Internet or that the content of this module could be the basis for training. Its just a question of finding the information you need, getting permission to adapt and reuse it and then adapting and using i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F499DE-8843-4C97-9C8C-E9EAB2063B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635097-1792-4459-B17C-E2CCE09C52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B5F0EA-3D80-4A60-A38E-FA4E413971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9B32B5-E79C-4E34-9384-91D0627021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0F213D-69B9-442F-8C5A-4ACF5FEB17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446484-97EB-4ABB-9400-92A05DC0B68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6E7074-6198-4BF0-8593-6B408321E7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88745DD-564B-4A94-AA1D-59640C48C6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2BBB2AFF-024A-4403-998F-ADB1E0D54A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7B3F8F1-C2F0-443D-9A72-207BB73846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446E00F-F950-486E-9A5D-D16B7856EE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13E6A-FF58-4CDB-A802-F724488F27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E6FEE63-98FA-4E01-A04D-AD01DB366E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F96FC51-A084-4774-92DA-D159597198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A96023B-8A7B-4FAE-8C8E-CB4880971D8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B33462A-9CA7-4C54-AB02-39BEB29FD2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2B9014F-1B45-4530-9933-721173BCEA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47604-B426-448C-8AEF-BB8FE48F4C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E15824-06AE-444B-9B17-827286549E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320FD4-A3C8-41F7-B5D6-A6F39A4D88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B8B6043-0DB9-417C-99C7-26BC2507D0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AA5B2-2635-4FAA-A910-C1E067B47B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D2BCEB-C4D4-4E72-96E6-C353419535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97C40E-64E9-4B0E-8171-4E92C653CF4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CD243-6C68-44DD-8A9D-4B927811BC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6E773-0BF6-4DDA-8347-6212A1131B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0" name="visit_itrain2" descr=""/>
          <p:cNvPicPr/>
          <p:nvPr/>
        </p:nvPicPr>
        <p:blipFill>
          <a:blip r:embed="rId2"/>
          <a:stretch/>
        </p:blipFill>
        <p:spPr>
          <a:xfrm>
            <a:off x="7543800" y="6164280"/>
            <a:ext cx="914400" cy="617400"/>
          </a:xfrm>
          <a:prstGeom prst="rect">
            <a:avLst/>
          </a:prstGeom>
          <a:ln w="0">
            <a:noFill/>
          </a:ln>
        </p:spPr>
      </p:pic>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7124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n the trainer; administering and facilitating effective training events</a:t>
            </a:r>
            <a:endParaRPr b="0" lang="en-US" sz="44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uide for information and technology trai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ing a training event</a:t>
            </a:r>
            <a:endParaRPr b="0" lang="en-US" sz="4400" spc="-1" strike="noStrike">
              <a:solidFill>
                <a:srgbClr val="000000"/>
              </a:solidFill>
              <a:latin typeface="Arial"/>
            </a:endParaRPr>
          </a:p>
        </p:txBody>
      </p:sp>
      <p:sp>
        <p:nvSpPr>
          <p:cNvPr id="11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preparation of ven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positive learning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ion and delivery of content and learning/skills develop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achievement of learning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event and achievements (objectives and expect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the event posi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 and review</a:t>
            </a:r>
            <a:endParaRPr b="0" lang="en-US" sz="4400" spc="-1" strike="noStrike">
              <a:solidFill>
                <a:srgbClr val="000000"/>
              </a:solidFill>
              <a:latin typeface="Arial"/>
            </a:endParaRPr>
          </a:p>
        </p:txBody>
      </p:sp>
      <p:sp>
        <p:nvSpPr>
          <p:cNvPr id="11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and analyse workshop experienc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content, administration, logistics, etc.</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 on experience from your perspectiv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o appropriate stakeholder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 </a:t>
            </a:r>
            <a:r>
              <a:rPr b="1" lang="en-US" sz="3200" spc="-1" strike="noStrike">
                <a:solidFill>
                  <a:srgbClr val="000000"/>
                </a:solidFill>
                <a:latin typeface="Arial"/>
              </a:rPr>
              <a:t>impact</a:t>
            </a:r>
            <a:r>
              <a:rPr b="0" lang="en-US" sz="3200" spc="-1" strike="noStrike">
                <a:solidFill>
                  <a:srgbClr val="000000"/>
                </a:solidFill>
                <a:latin typeface="Arial"/>
              </a:rPr>
              <a:t> of the training ev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stics</a:t>
            </a:r>
            <a:endParaRPr b="0" lang="en-US" sz="4400" spc="-1" strike="noStrike">
              <a:solidFill>
                <a:srgbClr val="000000"/>
              </a:solidFill>
              <a:latin typeface="Arial"/>
            </a:endParaRPr>
          </a:p>
        </p:txBody>
      </p:sp>
      <p:sp>
        <p:nvSpPr>
          <p:cNvPr id="11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worksho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invitations, technology, budge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ly pri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materials, person availabil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and logistical support availability, unforeseen resource requiremen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worksho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 document, financial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roles</a:t>
            </a:r>
            <a:endParaRPr b="0" lang="en-US" sz="4400" spc="-1" strike="noStrike">
              <a:solidFill>
                <a:srgbClr val="000000"/>
              </a:solidFill>
              <a:latin typeface="Arial"/>
            </a:endParaRPr>
          </a:p>
        </p:txBody>
      </p:sp>
      <p:sp>
        <p:nvSpPr>
          <p:cNvPr id="12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r more people may need to be involv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event “manag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er or facilita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materials adapter or develop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 and logistical sup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suppor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 sponsor or cl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Your role in the training process…</a:t>
            </a:r>
            <a:endParaRPr b="0" lang="en-US" sz="3900" spc="-1" strike="noStrike">
              <a:solidFill>
                <a:srgbClr val="000000"/>
              </a:solidFill>
              <a:latin typeface="Arial"/>
            </a:endParaRPr>
          </a:p>
        </p:txBody>
      </p:sp>
      <p:sp>
        <p:nvSpPr>
          <p:cNvPr id="12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se strengths and weakn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exper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s for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yoursel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you lear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be improved next 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I improve my role in th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2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to recognise the distinct phases and process of effective training eve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dapting materials, implementation and delivery, evaluation and review, logistic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ro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 trainer/facilitator, content developer, administrative and technical suppor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se where you can play a part and where you may need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raining of adults should be guided by adult learning princi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998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
        <p:nvSpPr>
          <p:cNvPr id="126" name=""/>
          <p:cNvSpPr/>
          <p:nvPr/>
        </p:nvSpPr>
        <p:spPr>
          <a:xfrm>
            <a:off x="1066680" y="4876920"/>
            <a:ext cx="6858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trainOnline: “ICT training of trainers” material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itrainonline.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a:t>
            </a:r>
            <a:endParaRPr b="0" lang="en-US" sz="4400" spc="-1" strike="noStrike">
              <a:solidFill>
                <a:srgbClr val="000000"/>
              </a:solidFill>
              <a:latin typeface="Arial"/>
            </a:endParaRPr>
          </a:p>
        </p:txBody>
      </p:sp>
      <p:sp>
        <p:nvSpPr>
          <p:cNvPr id="9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ev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tionary definition = activity leading to skilled behaviou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ation = skills development leading to a defined learning outc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 = time boun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s development, learning and knowled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ult learning principles</a:t>
            </a:r>
            <a:endParaRPr b="0" lang="en-US" sz="4400" spc="-1" strike="noStrike">
              <a:solidFill>
                <a:srgbClr val="000000"/>
              </a:solidFill>
              <a:latin typeface="Arial"/>
            </a:endParaRPr>
          </a:p>
        </p:txBody>
      </p:sp>
      <p:sp>
        <p:nvSpPr>
          <p:cNvPr id="10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know why they need to learn someth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learn experientiall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approach learning as problem-solv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learn best when the topic is of immediate val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view learning is an active process in the construction of meaning</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ear and I forget - I see and I remember - I do and I underst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outline</a:t>
            </a:r>
            <a:endParaRPr b="0" lang="en-US" sz="4400" spc="-1" strike="noStrike">
              <a:solidFill>
                <a:srgbClr val="000000"/>
              </a:solidFill>
              <a:latin typeface="Arial"/>
            </a:endParaRPr>
          </a:p>
        </p:txBody>
      </p:sp>
      <p:sp>
        <p:nvSpPr>
          <p:cNvPr id="10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the main phases and processes associated with planning and delivering training ev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implementing, and evalua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stics and materia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troduction to the roles and activities invol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10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this unit participants will be able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the key phases and processes involved in running a training ev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roles associated with a training ev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reas for improving their role(s) in the training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hases and processes </a:t>
            </a:r>
            <a:endParaRPr b="0" lang="en-US" sz="4400" spc="-1" strike="noStrike">
              <a:solidFill>
                <a:srgbClr val="000000"/>
              </a:solidFill>
              <a:latin typeface="Arial"/>
            </a:endParaRPr>
          </a:p>
        </p:txBody>
      </p:sp>
      <p:sp>
        <p:nvSpPr>
          <p:cNvPr id="10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a training ev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training materi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new materia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ation and delivery of actual ev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re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training-cycle" descr=""/>
          <p:cNvPicPr/>
          <p:nvPr/>
        </p:nvPicPr>
        <p:blipFill>
          <a:blip r:embed="rId1"/>
          <a:stretch/>
        </p:blipFill>
        <p:spPr>
          <a:xfrm>
            <a:off x="995400" y="1057320"/>
            <a:ext cx="7081920" cy="4581360"/>
          </a:xfrm>
          <a:prstGeom prst="rect">
            <a:avLst/>
          </a:prstGeom>
          <a:ln w="0">
            <a:noFill/>
          </a:ln>
        </p:spPr>
      </p:pic>
      <p:sp>
        <p:nvSpPr>
          <p:cNvPr id="108" name=""/>
          <p:cNvSpPr/>
          <p:nvPr/>
        </p:nvSpPr>
        <p:spPr>
          <a:xfrm>
            <a:off x="609480" y="6248520"/>
            <a:ext cx="594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 copyright: RedR &lt;www.lboro.ac.uk/departments/cv/wedc/&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a training event</a:t>
            </a:r>
            <a:endParaRPr b="0" lang="en-US" sz="4400" spc="-1" strike="noStrike">
              <a:solidFill>
                <a:srgbClr val="000000"/>
              </a:solidFill>
              <a:latin typeface="Arial"/>
            </a:endParaRPr>
          </a:p>
        </p:txBody>
      </p:sp>
      <p:sp>
        <p:nvSpPr>
          <p:cNvPr id="11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needs tr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ir training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learning objectives to meet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ing the cont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ing the training program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s and early logistical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ing training materials </a:t>
            </a:r>
            <a:endParaRPr b="0" lang="en-US" sz="4400" spc="-1" strike="noStrike">
              <a:solidFill>
                <a:srgbClr val="000000"/>
              </a:solidFill>
              <a:latin typeface="Arial"/>
            </a:endParaRPr>
          </a:p>
        </p:txBody>
      </p:sp>
      <p:sp>
        <p:nvSpPr>
          <p:cNvPr id="11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ng and assessing suitable cont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content to your nee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ive development and interaction with planned participa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ing additional resources to support the training ev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and finalise the program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ise the training event con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0:41:16Z</dcterms:created>
  <dc:creator>Martin Belcher</dc:creator>
  <dc:description/>
  <dc:language>en-US</dc:language>
  <cp:lastModifiedBy>Martin Belcher</cp:lastModifiedBy>
  <dcterms:modified xsi:type="dcterms:W3CDTF">2004-03-08T15:11:56Z</dcterms:modified>
  <cp:revision>13</cp:revision>
  <dc:subject/>
  <dc:title>Train the trainer; administering and facilitating effective training events</dc:title>
</cp:coreProperties>
</file>