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4"/>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9527-F36F-4BA7-A9BA-2A638BD6A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0" y="0"/>
            <a:ext cx="6647040" cy="579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94" name="PlaceHolder 6"/>
          <p:cNvSpPr>
            <a:spLocks noGrp="1"/>
          </p:cNvSpPr>
          <p:nvPr>
            <p:ph type="ftr" idx="5"/>
          </p:nvPr>
        </p:nvSpPr>
        <p:spPr>
          <a:xfrm>
            <a:off x="-360" y="9512280"/>
            <a:ext cx="6041880" cy="331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on the speed of delivery and interaction with participants, this presentation takes around 20-30 minutes to delivery (with minimal interaction/discuss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very important to implement training effectively, otherwise it can be counter productive e.g. if people participate in a bad/ineffective training activity then they may consider that the problem lay with the subject area and not the training format. When this comes to ICT issues, then it could lead people to dismiss the technology or application in question. Correcting that situation will double any training requir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and review has to be done to ensure success and guide changes that ar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we will be evaluating this workshop and looking at its </a:t>
            </a:r>
            <a:r>
              <a:rPr b="1" lang="en-US" sz="1000" spc="-1" strike="noStrike">
                <a:solidFill>
                  <a:srgbClr val="000000"/>
                </a:solidFill>
                <a:latin typeface="Arial"/>
              </a:rPr>
              <a:t>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e-resource training – impact can be assessed by usage patterns – you may wish to provide details of how e.g. training searching patterns of end users, before and after advanced searching train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stics are very important for successful training and they take a surprising amount of time and effort to do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like to provide some simple details for the organisation of this workshop – how much time it took to invite people, get them here, accommodation, travel issues, etc, et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possible to conduct a complete training programme with one person but there are distinct roles they need to consider and it is often better to split these between more than one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ue to practicalities and constraints, it may be that we are limited to just one person, even so, thinking about all of the roles and their different aspects helps to make sure that nothing is miss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trainer or someone involved in planning training activities, one needs to ask oneself the following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ole do I have in the training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I lear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be improved for next time – in terms of the process and peo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improve my role in the proces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 this workshop facilitator you should ask yourself these questions – you may want to provide a few simple answers for the participants of the workshop, as an indication of the learning process and how it can be beneficial. It might be worth thinking about the question and possible answers before you deliver this module though!</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like to highlight that this module and its materials are based on information that can be found a freely used online. In line with the “find and adapt” training materials from earli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o define what “training” is and in this case, what constitutes an “event”, as this helps focus ou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is primarily associated with the learning of new skills, knowledge or approaches i.e. it is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outline of this presentation/module – you may wish to move quickly through this, as it is covered in more detail in the rest of the present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earning objectives for this module – we should be able to go back to these are the end of the module and review them in a positive light – that we are able to do these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tem is a general theme in all training – that people delivering the training should always be learning themselv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5840" y="744480"/>
            <a:ext cx="496584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ss the importance of planning – </a:t>
            </a:r>
            <a:r>
              <a:rPr b="1" lang="en-US" sz="1000" spc="-1" strike="noStrike">
                <a:solidFill>
                  <a:srgbClr val="000000"/>
                </a:solidFill>
                <a:latin typeface="Arial"/>
              </a:rPr>
              <a:t>without adequate planning</a:t>
            </a:r>
            <a:r>
              <a:rPr b="0" lang="en-US" sz="1000" spc="-1" strike="noStrike">
                <a:solidFill>
                  <a:srgbClr val="000000"/>
                </a:solidFill>
                <a:latin typeface="Arial"/>
              </a:rPr>
              <a:t>, then a training event is much more likely to </a:t>
            </a: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achieve its desired aim</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identally, one of the key aspects of planning a training event is to clearly understand and define what the desired aim of the training is? What impact will it have? If that can’t be clearly defined then it might be that it is not needed or it is better to do something el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phases and processes within the planning and delivery of a training event are all related and should be cyclic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feeds into another and iterative changes are possible and likely at all stages of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iterations during and between the cycles that lead to improved training and end impact of training ev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go into these in more details in later modules/content of the workshop. They are all important areas and none should be missed at the expense of anoth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t is possible to write training materials from scratch but it is difficult and time consuming. Considering the wealth of information and training resources available in this area online, then why not locate, adapt and use existing training materials and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refer to earlier workshop content – that it was based on content from the Internet or that the content of this module could be the basis for training. Its just a question of finding the information you need, getting permission to adapt and reuse it and then adapting and using i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C8D3F-EC61-4033-82BE-0E72E5FB3F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014A0-473B-428D-9FE9-6650BA9BE3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5920E-2353-4818-8769-C4AC9AF6D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8E976-C3AA-4411-8481-DACE31EBA4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C395C3-7F36-4882-9838-59FF67CAD2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B3D956-8740-42AC-AD64-7175150A3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BC3F6F-319C-433E-AC83-69FC2FE0E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6DFA4C8-4199-4EB5-93A3-0ED4B4111E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C283AF9-AEAA-4C18-924C-C6B273D44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55FBFBE-B292-4B65-8FE3-201BE1C59A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C96DB6-8A95-4B11-8C10-C54B578F70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F577-9BB1-458F-8638-27E80788AE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B24A1F-9378-4467-9C85-4187FAC12A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381595-A4B1-479D-A827-5591AC74E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C100C2-4939-4E35-9D9A-6315FE1D07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42F7B83-ADDB-4C80-AB80-2A6CC8BD01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E3E0731-4843-489E-BA1D-EC18B12198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BBFB-0FF3-48EE-BDEC-6E8DBD5059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5950F-F09B-45E9-8657-49F21AE3DD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6C924F-0F41-4D17-926E-E145397F5F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47BF4B-D04B-4D69-9A9C-0D543A4063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CFC5A-A834-43BB-B0C2-299156AF7A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C0515-E459-4DFE-8AE0-23E1A13EE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30B19-CA2B-450F-957A-A38F4BC404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E01A-01A9-4110-9C90-F59F61365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DDB1-7FEE-43CD-9E0B-276805102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visit_itrain2" descr=""/>
          <p:cNvPicPr/>
          <p:nvPr/>
        </p:nvPicPr>
        <p:blipFill>
          <a:blip r:embed="rId2"/>
          <a:stretch/>
        </p:blipFill>
        <p:spPr>
          <a:xfrm>
            <a:off x="7543800" y="6164280"/>
            <a:ext cx="914400" cy="6174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the trainer; administering and facilitating effective training event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de for information and technology trai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 training event</a:t>
            </a:r>
            <a:endParaRPr b="0" lang="en-US" sz="4400" spc="-1" strike="noStrike">
              <a:solidFill>
                <a:srgbClr val="000000"/>
              </a:solidFill>
              <a:latin typeface="Arial"/>
            </a:endParaRPr>
          </a:p>
        </p:txBody>
      </p:sp>
      <p:sp>
        <p:nvSpPr>
          <p:cNvPr id="1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eparation of ven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ositive learning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on and delivery of content and learning/skill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chievement of lear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event and achievements (objectives and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the event posi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and review</a:t>
            </a:r>
            <a:endParaRPr b="0" lang="en-US" sz="4400" spc="-1" strike="noStrike">
              <a:solidFill>
                <a:srgbClr val="000000"/>
              </a:solidFill>
              <a:latin typeface="Arial"/>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se workshop experienc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ntent, administration, logistics, etc.</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experience from your perspectiv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appropriate stakehold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 </a:t>
            </a:r>
            <a:r>
              <a:rPr b="1" lang="en-US" sz="3200" spc="-1" strike="noStrike">
                <a:solidFill>
                  <a:srgbClr val="000000"/>
                </a:solidFill>
                <a:latin typeface="Arial"/>
              </a:rPr>
              <a:t>impact</a:t>
            </a:r>
            <a:r>
              <a:rPr b="0" lang="en-US" sz="3200" spc="-1" strike="noStrike">
                <a:solidFill>
                  <a:srgbClr val="000000"/>
                </a:solidFill>
                <a:latin typeface="Arial"/>
              </a:rPr>
              <a:t> of the training ev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invitations, technology,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p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terials, person avai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nd logistical support availability, unforeseen resource require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ocument, financi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roles</a:t>
            </a:r>
            <a:endParaRPr b="0" lang="en-US" sz="4400" spc="-1" strike="noStrike">
              <a:solidFill>
                <a:srgbClr val="000000"/>
              </a:solidFill>
              <a:latin typeface="Arial"/>
            </a:endParaRPr>
          </a:p>
        </p:txBody>
      </p:sp>
      <p:sp>
        <p:nvSpPr>
          <p:cNvPr id="12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people may need to be involv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vent “mana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 or facilit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 adapter or develo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and logistical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sponsor or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Your role in the training process…</a:t>
            </a:r>
            <a:endParaRPr b="0" lang="en-US" sz="3900" spc="-1" strike="noStrike">
              <a:solidFill>
                <a:srgbClr val="000000"/>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improved next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improve my role in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cognise the distinct phases and process of effective training ev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dapting materials, implementation and delivery, evaluation and review, logistic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trainer/facilitator, content developer, administrative and technical suppor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se where you can play a part and where you may need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raining of adults should be guided by adult learning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126" name=""/>
          <p:cNvSpPr/>
          <p:nvPr/>
        </p:nvSpPr>
        <p:spPr>
          <a:xfrm>
            <a:off x="1066680" y="487692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trainOnline: “ICT training of trainers” materia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trainonline.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v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 = activity leading to skilled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 skills development leading to a defined learning out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 time b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development, learning and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main phases and processes associated with planning and delivering train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mplementing, and evalu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nd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oduction to the roles and activities inv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unit participants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key phases and processes involved in running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roles associated with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for improving their role(s) in the trai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hases and processes </a:t>
            </a:r>
            <a:endParaRPr b="0" lang="en-US" sz="4400" spc="-1" strike="noStrike">
              <a:solidFill>
                <a:srgbClr val="000000"/>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 training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raining mater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delivery of actual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raining-cycle" descr=""/>
          <p:cNvPicPr/>
          <p:nvPr/>
        </p:nvPicPr>
        <p:blipFill>
          <a:blip r:embed="rId1"/>
          <a:stretch/>
        </p:blipFill>
        <p:spPr>
          <a:xfrm>
            <a:off x="995400" y="1057320"/>
            <a:ext cx="7081920" cy="4581360"/>
          </a:xfrm>
          <a:prstGeom prst="rect">
            <a:avLst/>
          </a:prstGeom>
          <a:ln w="0">
            <a:noFill/>
          </a:ln>
        </p:spPr>
      </p:pic>
      <p:sp>
        <p:nvSpPr>
          <p:cNvPr id="108" name=""/>
          <p:cNvSpPr/>
          <p:nvPr/>
        </p:nvSpPr>
        <p:spPr>
          <a:xfrm>
            <a:off x="609480" y="624852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pyright: RedR &lt;www.lboro.ac.uk/departments/cv/wedc/&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1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training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learning objectives to meet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ing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the training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nd early logistic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training materials </a:t>
            </a:r>
            <a:endParaRPr b="0" lang="en-US" sz="44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ng and assessing suitable con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content to your nee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and interaction with planned particip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dditional resources to support the training ev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finalise the program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se the training event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0:41:16Z</dcterms:created>
  <dc:creator>Martin Belcher</dc:creator>
  <dc:description/>
  <dc:language>en-US</dc:language>
  <cp:lastModifiedBy>Martin Belcher</cp:lastModifiedBy>
  <dcterms:modified xsi:type="dcterms:W3CDTF">2004-03-08T15:11:56Z</dcterms:modified>
  <cp:revision>13</cp:revision>
  <dc:subject/>
  <dc:title>Train the trainer; administering and facilitating effective training events</dc:title>
</cp:coreProperties>
</file>